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1350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829-2D9D-4BDB-835B-3F4F563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CBC-0E3F-4EF8-926D-35958F2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703-555E-4218-84C9-7102A8CA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91E-182A-48E5-9799-79E614F8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66B-3AAC-46EE-8071-05AEF31B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A280-2DE9-4B20-952E-B715524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AC06-D8F9-4927-8F14-6CDBA94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C885-3DB4-494D-9EF6-C284F47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21DD-09ED-439E-A487-40AFE0A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50D-E298-4E99-8061-94FDDC1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407F-EF4F-4960-A67D-431CE1C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FA0-BF45-4A48-9F4C-F851839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6871-11F7-4C3B-84B7-2420785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693B-A7F4-4456-A038-2F56B8C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F14-0FF0-4679-A71D-8AC19300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D0B7-A7C0-41E0-9C23-DFBE186D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A890-58FD-4788-97E4-C5DCBDBC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537-0A11-4A75-AA00-2CDEBAF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BE1-CAC0-4F91-8CD5-7CD8059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F4C-A64E-42A9-9CD1-E18E94B1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393-2B7F-407B-9B6F-3B5368A1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365-9616-4D42-B227-724BBA6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9AC-CDAE-4CDA-964F-166C8BE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454-44E1-45EE-9431-DD713D5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693-43E1-4ECF-8FE7-FF97C222C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178-8334-4488-98FA-73471C69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Eligibl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7AD-1C90-4DE4-BFD6-F9F98A8FE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Access (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duit access to the Internet,       E-mail service, and web hosting are eligible I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duits include but are not limi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over Power Lines (B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x, DS-x, OC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90E-BDDB-445A-A262-2CC23D94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(IC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Tw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CEF-4D4C-4B10-A565-CF47B642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isual Guide to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rial of the eligibility of service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 of condi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product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651-3566-49C6-8D54-9B48EBF2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Ex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Rack design plus divisions"/>
          <p:cNvPicPr/>
          <p:nvPr/>
        </p:nvPicPr>
        <p:blipFill>
          <a:blip r:embed="rId1"/>
          <a:stretch/>
        </p:blipFill>
        <p:spPr>
          <a:xfrm>
            <a:off x="609480" y="114300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3E7-246C-4ACB-982F-DB3574AD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Ex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Rack 2"/>
          <p:cNvPicPr/>
          <p:nvPr/>
        </p:nvPicPr>
        <p:blipFill>
          <a:blip r:embed="rId1"/>
          <a:stretch/>
        </p:blipFill>
        <p:spPr>
          <a:xfrm>
            <a:off x="990720" y="1168560"/>
            <a:ext cx="73911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1A41-7C68-4532-811A-FDA7AA6D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room Intern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omputer bank plus divisions"/>
          <p:cNvPicPr/>
          <p:nvPr/>
        </p:nvPicPr>
        <p:blipFill>
          <a:blip r:embed="rId1"/>
          <a:stretch/>
        </p:blipFill>
        <p:spPr>
          <a:xfrm>
            <a:off x="533520" y="1295280"/>
            <a:ext cx="78483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8A7-C4A2-4836-974C-0F8F85F7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Inter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Ex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oom 2 plus divisions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2E1-85BB-4EC7-BC1A-8BE42C325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Priority Tw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71B-D1C1-4295-B354-5F14BC4B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e necessary and continued operation of eligible internal connection components at eligib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epair and upkeep of eligible hardware, wire and cable maintenance, and configura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B7F-5087-4953-9BE7-D38C7C66E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echnical support of eligible hardware is Eligible. End-user support such as a student calling a help desk for technical assistance is NOT Elig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A4C-58F1-4715-A33B-DBBB5E18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igible Services List (E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/Service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nections (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B85-398E-4F77-916D-CAA512417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a Recurr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ust be within Jul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June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exempt from the Two-in-F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3BF-A3A6-4242-9DD9-2BCB5ACF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AD0-8675-4D18-AB1F-A0AA867B8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ellaneous items reflect same category of the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, activation, initial configuration, training, shipping, taxes and lease fees are all conditionally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A884-11CA-47D5-9BB8-1FFAB963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558-5ABF-4E13-9430-CE515E7C9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ligible Services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L is a reference for participants in the program to use to find out what products and services E-rate wil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Eligible Services List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rom FCC Orders, USAC, and recommendations from the Public Com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F3E-44C8-4D67-B9E7-AA2043CE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e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s Serv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ne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87692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ecial areas with additional inform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ligibility Condi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7E00-538F-425D-892A-DFFB3A22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38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0D30-7108-4539-966C-91378A4B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ecommunications Servic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A493-3C3F-4092-B770-279D8E77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Telephon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sic telephone services do NOT require a technology pl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0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ex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 phon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distanc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 (Plain Old Telephone Serv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telephone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0B9-D739-48B2-B217-EBDDEEE0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Basic Telecom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asic telecom services require a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rvices listed as Digital Transmiss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but is not limited to: T-x, ATM, DSL, OC-x, Fiber Optic, DS-x, Frame Relay and P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475D-9EC2-400A-A7C5-B63A5747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rreynolds</cp:lastModifiedBy>
  <dcterms:modified xsi:type="dcterms:W3CDTF">2009-09-18T19:27:59Z</dcterms:modified>
  <cp:revision>62</cp:revision>
  <dc:subject/>
  <dc:title>Slide 1</dc:title>
</cp:coreProperties>
</file>